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E9EF-9AD1-43FB-AE2D-4653FE560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F497-4BC6-45BB-9906-F0D247E39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8324-195C-410F-A626-5A98510D1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016E-CA25-45F6-8BD7-8674F5FC00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68B3-CBCE-457C-8EA0-40FE4B5508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8CE9-C0FB-4E28-9512-F73F9220D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CE3D-24F6-40BF-821E-EA56DC2A3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F347-8CD5-4466-BBF8-C81AEE990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8D15-E80D-440C-980B-D4F01D2B1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3838-986A-43E6-888D-BCEED064C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A8CD-F4B6-4895-A245-41C970333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4A3B-FECF-4296-82B3-B661CEAD1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D9BB-5B7A-4931-84DD-6EEEE26F90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bs.org/wgbh/misunderstoodminds/experiences/mathexp2a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33E8-E3ED-4179-B2D4-AC53350E35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ample 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952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one of the following les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9 Applied -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0 Applied - Trigon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Workplace -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Functions and Applications -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2 Advanced Functions - Ration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355A-D756-4EF4-BA75-A8A4DCAD0B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nah Zike’s Teaching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ematics with Foldab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D716-043D-401C-9A6F-449368FC51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533520" y="20178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dables result in student-made study guides that are compiled as students listen for main ideas, read for main ideas, and work their way through new concepts and proced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5C71-A109-46F0-AACD-E966E7F37B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304920" y="160020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template from the samples of “foldables”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“foldable” related to your TIPS lesson to support students with learning dis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40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reate a “Foldable”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66D3-38C5-459D-9330-9712F3F1CB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457200" y="76320"/>
            <a:ext cx="8156520" cy="53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1940-5EA2-4B5C-BEC1-57D0FEB554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144440" y="304920"/>
            <a:ext cx="693288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DAAB-DFEC-4AC6-9A2F-A645558511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7960" cy="403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301788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9169-8B1F-4545-870E-366BE0B4E1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6553080" y="76320"/>
            <a:ext cx="152424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ree-Tab Boo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E267-6FFF-40BF-931C-5A49F586E7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57200" y="609480"/>
            <a:ext cx="51814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a sheet of paper like a hot d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ith the paper horizontal, and the fold of the hot dog up, fold the right side toward the center, trying to cover one half of th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the left side over the right side to make a book with three fo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pen the folded book. Cut up the two valleys on the top side only. This will form three ta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this book for data occurring in th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116760" y="533520"/>
            <a:ext cx="1655640" cy="761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7162920" y="1371600"/>
            <a:ext cx="1447560" cy="1147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6324480" y="2209680"/>
            <a:ext cx="838440" cy="130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6515280" y="4038480"/>
            <a:ext cx="1866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3CBC-13FD-4138-BEA8-67E6B17117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334800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69900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2133720" y="4495680"/>
            <a:ext cx="4114800" cy="1768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4"/>
          <a:stretch/>
        </p:blipFill>
        <p:spPr>
          <a:xfrm>
            <a:off x="6553080" y="2286000"/>
            <a:ext cx="1828800" cy="344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990720" y="2362320"/>
            <a:ext cx="42465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721C-B2B2-4DAF-8EB2-685C89F3E8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41120" y="380880"/>
            <a:ext cx="8622000" cy="3962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5759280" y="3219480"/>
            <a:ext cx="285120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ore Simula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962E-6A57-43F7-B567-FC51819081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0C13-5573-4228-9C01-9A68115919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533520" y="129528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scalcul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erm referring to a wide range of life-long learning disabilities involving math. There is no one single form of this math disability, but usually it incorporates one or more of following areas of difficul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Spatial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Memory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6023-B818-41B7-8363-E7E2C1DC18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867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3085-3F8A-4638-94B3-DDAE1642B1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5279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6220-1001-4671-AE13-999379CAD2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581280" cy="253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800600" y="762120"/>
            <a:ext cx="3930480" cy="198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1189080" y="3429000"/>
            <a:ext cx="4373640" cy="175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4"/>
          <a:stretch/>
        </p:blipFill>
        <p:spPr>
          <a:xfrm>
            <a:off x="6095880" y="2895480"/>
            <a:ext cx="160020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856B-50D2-423A-80FB-255BF3B780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4622760" y="2819520"/>
            <a:ext cx="4368960" cy="32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rcRect l="0" t="22874" r="3443" b="21118"/>
          <a:stretch/>
        </p:blipFill>
        <p:spPr>
          <a:xfrm>
            <a:off x="533520" y="380880"/>
            <a:ext cx="472896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380880" y="2895480"/>
            <a:ext cx="401796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B518-87A5-4DAE-9665-BFA9D413FF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1"/>
          <a:stretch/>
        </p:blipFill>
        <p:spPr>
          <a:xfrm>
            <a:off x="274680" y="314280"/>
            <a:ext cx="7954920" cy="501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5570640" y="5562720"/>
            <a:ext cx="24303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642C-5D7C-4FDA-AB38-E6CF20AD17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560520" y="-495360"/>
            <a:ext cx="8126280" cy="59054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5105520" y="-457200"/>
            <a:ext cx="2971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8E10-6FED-4945-8AA3-D3C60B802C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2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8727840" cy="4114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985080" y="4495680"/>
            <a:ext cx="8715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3464-3392-4F37-90C0-4C8E64A434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3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32560" cy="51814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5410080" y="152280"/>
            <a:ext cx="1828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D143-0D46-4E18-A96D-B665235359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457200" y="1349280"/>
            <a:ext cx="5029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few minutes to look each other’s fold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foldables help students with learning disa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895480" y="480060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ttp://mathnmind.com/PDF%20Files/Pre-Algebra/dzf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523880" y="51814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speakmath.wordpress.com/2012/03/07/all-about-slope-foldable/#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tput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A8AC-0881-46EE-B074-66D9E4AF1E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861160" cy="2666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52280" y="2666880"/>
            <a:ext cx="279396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tput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D63A-828A-4FF0-B059-3143226F81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86116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sual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7EDF-8116-464C-89FA-8B37D25B32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914400"/>
            <a:ext cx="75182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mall Group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1142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students with learning disabilities in your school (i.e. in which course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ways your math department/school/Board currently supports students with learning disabilities that you think ar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9448-B7D6-4B86-B170-1F42898649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.A.T. City Workshop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3C92-3D9A-4BFB-BFCE-981B146002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17204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4300560" cy="3048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304920" y="41911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these situations relate to your math cla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5105520" y="1219320"/>
            <a:ext cx="32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ading Comprehension – vocab. In and out of context (5 min. 11 se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eft Arrow 7"/>
          <p:cNvSpPr/>
          <p:nvPr/>
        </p:nvSpPr>
        <p:spPr>
          <a:xfrm>
            <a:off x="4800600" y="1295280"/>
            <a:ext cx="228600" cy="152640"/>
          </a:xfrm>
          <a:prstGeom prst="leftArrow">
            <a:avLst>
              <a:gd name="adj1" fmla="val 50000"/>
              <a:gd name="adj2" fmla="val 4992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5181480" y="167652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ading and Decoding – p b d q (7 min. 55 se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own Arrow 9"/>
          <p:cNvSpPr/>
          <p:nvPr/>
        </p:nvSpPr>
        <p:spPr>
          <a:xfrm>
            <a:off x="5791320" y="198108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2209680" y="62150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F.A.T. City Workshops (Frustration, Anxiety, Tension), Rick Lavoie,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mall Group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120" y="13716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specific student you have encountered who has a learning disability and finds learning particularly challenging.  Which of the 5 cognitive processes is low for this student?  How did that manifest itself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B5C3-B914-45FA-9AD8-4765DEDAA3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18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1000"/>
          </a:bodyPr>
          <a:p>
            <a:pPr marL="348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TIPS lesson from the samples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lesson to familiarize yourself with the content and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it again with the 5 cognitive processes in mind and suggest modifications to better meet needs of students with learning dis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2855-3A7E-4064-826D-29BF2E59E2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ren</cp:lastModifiedBy>
  <dcterms:modified xsi:type="dcterms:W3CDTF">2012-07-19T17:11:47Z</dcterms:modified>
  <cp:revision>40</cp:revision>
  <dc:subject/>
  <dc:title>&lt;Title&gt;</dc:title>
</cp:coreProperties>
</file>